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DE0-740C-4836-B7F1-0F071D25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A82-2C1F-493F-8DD1-548B3BD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096-79C4-403D-8FC5-EAE83418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EE9-74C8-4962-856B-6665A3E1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D67A-249F-4D8C-AB44-016198F8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2501-FDB5-40E4-95B2-56DB1C1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646-D78B-425A-B9B0-A413A7D6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497A-F079-4654-B74E-BC45A06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B30-B3FD-4E30-851B-7142921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F171-B6EB-47FD-BBF4-F0F3F08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1C0-656F-4705-9B45-814F406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FC2-D536-4BD5-B2EE-D2FA58E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28F-0F7D-48A4-9128-CF0F8C8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E44-8C5A-490C-919B-8CEF62E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215-2A5B-45EF-BE7B-B4F3042B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5817-1CDD-4180-BDC1-8313D9A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FDE-5127-4241-A13E-7F72721F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EFCD-2D68-4CB4-95E0-837EC680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EFE2-AB4B-4E5C-B367-A8EF304A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82C3-92EE-4398-A3F0-4432D1EB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EFB9-1BDD-41A5-9B07-99CF882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3F7F-EACE-46C5-A6A1-3D78590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E85-5226-4CA5-AED3-65BD406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C59F-D58B-4F69-8619-C03EAFF9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494A-8651-45D1-A653-BAEFD3D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79AD-FFBF-433C-9AD2-E664858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3491-B742-438D-B7FB-8FF4F1C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DF2D-81A3-4BD6-AB70-F873B58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FDB2-9490-4395-BE6B-40FC638A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C29E-F3FB-4A42-B69F-C073A562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BFDC-648F-4E8B-BD07-7D702EA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343D-CC41-42DF-976E-D9EA172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8059-60EC-40F5-884E-B5B1CCD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960-7961-4AD0-B9EC-A17C3F8E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3CC8-1118-4012-BD4F-C9C7B68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87D4-4F13-44FD-80F8-D32C335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F27D-017F-4D1C-B811-4F399217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AB32-B300-4F4F-8C33-6D87561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063D-D624-4290-AD8C-70F811C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5F55-0E36-49E6-A435-86CEAC7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8FA4-9A8E-4B5B-B504-8B63EE1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9065-D888-4227-AD82-53B742B6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61C8-DF49-4EB8-88BB-DB2D50CF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528-24DA-4895-8A37-A164C80A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555-C7BF-4BDC-9C15-5CC75DC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A4F-D788-45E1-8578-2A23CB0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7C4-3C14-4890-B77A-39F5FB3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6A7-DCB0-4E92-A2FF-7712E0A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9DF58-B3C3-46A4-8E7C-8F72270F74C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752C6-002D-4997-84A9-0FB83AF8B1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ABE20-1C3E-4E18-ABA9-550927F2A3D1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0C0E3-5BF4-4AD2-9AFE-577F835CF1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916E9-F67A-46E6-9B32-AD2B6264CE5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EA754-9BD1-44C6-8B41-7ABA89CF2B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ED729-D80B-4AE8-8A57-9CDB1F90E43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E98B2-3AF1-460E-BE9F-D68A1FBB15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youtube.com/watch?v=PCVO9c9q4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523800" y="1262160"/>
            <a:ext cx="786456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utosomal Dominant Disorder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nheritance of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nly one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py of the mutated gene is necessary to be affected by the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Autosomal Dominant Disorder,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Huntington’s Disease and othe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Reproduction is then more dangerous because children have a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50%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hance of inheriting the mutated gene if their parent has it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s is because the mutated gene is expressed in both dominant Homozygotes and Heterozygotes.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utosomal Recessive Disorder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hereas,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Autosomal Recessive Disorders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require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mutated genes be inherited to be affecte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onstantia"/>
              </a:rPr>
              <a:t>(most genetic disorders are recessive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 Cystic Fibrosis, Sickle-Cell Anemia, and Tay-Sachs Diseas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would be Homozygous Recessive for these disorder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ssive disorders are usually inherited when both parents are “carrying” the mutated recessive gene (they ar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eterozygo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ost people do not know they are a CARRIER until they have a child with the disease.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value of studying Genetics is in understanding how we can predict the likelihood of inheriting particular trait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to set up a Punnett Square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3" descr="punnett square.jpg"/>
          <p:cNvPicPr/>
          <p:nvPr/>
        </p:nvPicPr>
        <p:blipFill>
          <a:blip r:embed="rId2"/>
          <a:srcRect l="-17143" t="0" r="-17143" b="0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hybrid Crosse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ross or mating between two organisms where two genes are studied are called a DIHYBRID cro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enes are located on separate chromosomes, so the traits themselves are unrela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gWw X GgW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Content Placeholder 3" descr="dihybrid cross.jpg"/>
          <p:cNvPicPr/>
          <p:nvPr/>
        </p:nvPicPr>
        <p:blipFill>
          <a:blip r:embed="rId2"/>
          <a:srcRect l="-19915" t="0" r="-19915" b="0"/>
          <a:stretch/>
        </p:blipFill>
        <p:spPr>
          <a:xfrm>
            <a:off x="-254160" y="1814400"/>
            <a:ext cx="9398160" cy="47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2:28:29Z</dcterms:created>
  <dc:creator>Taryn Williams</dc:creator>
  <dc:description/>
  <dc:language>en-US</dc:language>
  <cp:lastModifiedBy>Taryn Williams</cp:lastModifiedBy>
  <dcterms:modified xsi:type="dcterms:W3CDTF">2011-02-24T07:49:12Z</dcterms:modified>
  <cp:revision>6</cp:revision>
  <dc:subject/>
  <dc:title>HUNTINGTON’S DISEASE (HD)</dc:title>
</cp:coreProperties>
</file>